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A2A0-477F-4677-AEC6-EC657FDDD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8D9C-D616-4030-A929-A48E1F92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DE92-C8D1-468B-AD7D-812AF0BEB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56FD-AAEE-4C54-8A57-87B39E8D2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BC8B-E637-4416-8E33-BDF29740A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10B2-046C-4FF5-AB46-F619FA385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5A43-767C-4900-8784-2675F2CA0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855E-D507-4941-9C40-3B80D580E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8425-B5E4-4F59-B1E7-2E510C10F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0C2B-82ED-4385-872B-7533D7A3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BCE0-FC55-4102-A991-8D9A79FB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3DA5-F6C2-4902-AC6E-0DB54353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73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B53CD-945B-4202-8B24-5361647C40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nscha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idemarie Houlih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Content Placeholder 3" descr="justin bieber.jpg"/>
          <p:cNvPicPr/>
          <p:nvPr/>
        </p:nvPicPr>
        <p:blipFill>
          <a:blip r:embed="rId1"/>
          <a:stretch/>
        </p:blipFill>
        <p:spPr>
          <a:xfrm>
            <a:off x="2971800" y="1600200"/>
            <a:ext cx="3048120" cy="4297320"/>
          </a:xfrm>
          <a:prstGeom prst="rect">
            <a:avLst/>
          </a:prstGeom>
          <a:ln w="0">
            <a:noFill/>
          </a:ln>
        </p:spPr>
      </p:pic>
      <p:pic>
        <p:nvPicPr>
          <p:cNvPr id="45" name="Recorded Sound" descr=""/>
          <p:cNvPicPr/>
          <p:nvPr/>
        </p:nvPicPr>
        <p:blipFill>
          <a:blip r:embed="rId2"/>
          <a:stretch/>
        </p:blipFill>
        <p:spPr>
          <a:xfrm>
            <a:off x="8899560" y="661356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46" name="Justin Bieber Ft Ludacris - Baby Instrumental [Free Download].mp3" descr=""/>
          <p:cNvPicPr/>
          <p:nvPr/>
        </p:nvPicPr>
        <p:blipFill>
          <a:blip r:embed="rId3"/>
          <a:stretch/>
        </p:blipFill>
        <p:spPr>
          <a:xfrm>
            <a:off x="0" y="66135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48368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27074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2T02:47:02Z</dcterms:created>
  <dc:creator>MK</dc:creator>
  <dc:description/>
  <dc:language>en-US</dc:language>
  <cp:lastModifiedBy>MK</cp:lastModifiedBy>
  <dcterms:modified xsi:type="dcterms:W3CDTF">2012-05-22T03:06:27Z</dcterms:modified>
  <cp:revision>2</cp:revision>
  <dc:subject/>
  <dc:title>Modenschau</dc:title>
</cp:coreProperties>
</file>